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33D0-EB68-4072-820E-81591D462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5B78-BAE4-4A6F-8F3D-F6714E96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6990-5961-481B-8A4E-AFDEC00AE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5DF0-2A83-440E-BE6C-5033B61D1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04EB-E4F1-494E-90E4-EA67DE29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4136-A63E-409A-9331-DFC9C0C6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A340-8F85-4AD1-AD5A-BFBDEB84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BF64-4B78-4A25-82B1-954B63D7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21BD-254A-4FB6-986C-2990B33A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B3DC-7710-43A3-AF3F-54BDBA22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D818-4D7F-450A-B116-07D26ADD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C825-AC7D-4293-A0B5-095CCC89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4EC1-926C-4167-A2E7-5F4181BC7E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6:25:03Z</dcterms:created>
  <dc:creator>Michael McCandless</dc:creator>
  <dc:description/>
  <dc:language>en-US</dc:language>
  <cp:lastModifiedBy>Lukas Graf</cp:lastModifiedBy>
  <dcterms:modified xsi:type="dcterms:W3CDTF">2014-09-01T10:23:50Z</dcterms:modified>
  <cp:revision>2</cp:revision>
  <dc:subject/>
  <dc:title>Slide 1</dc:title>
</cp:coreProperties>
</file>