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F002-168C-4C83-9D25-D3D392EE5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BA9C-D4E1-4E9E-A102-318CA75B6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09D6-16CA-4089-8A81-F854CAA06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FFB8-44A5-47C2-A3C4-63DD757E6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700A-E42F-474F-BA73-659168793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A300-187F-401A-BB9A-DCF3D0796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993E-EDD9-4E7C-923C-5F3DF1842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4497-43F1-49EA-8830-90F06E39A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8271-E60A-4550-8291-F5DB03D34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9747-1EB6-4C2A-ADA5-0A795DB84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9216-3EDC-46D6-88B2-2C741933A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6E62-B19B-414C-A0B6-4EB2418F6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C8921-323E-4822-9B0D-62BBAE3A4E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rem Ipsu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3T16:25:03Z</dcterms:created>
  <dc:creator>Michael McCandless</dc:creator>
  <dc:description/>
  <dc:language>en-US</dc:language>
  <cp:lastModifiedBy>Lukas Graf</cp:lastModifiedBy>
  <dcterms:modified xsi:type="dcterms:W3CDTF">2014-09-01T10:23:50Z</dcterms:modified>
  <cp:revision>2</cp:revision>
  <dc:subject/>
  <dc:title>Slide 1</dc:title>
</cp:coreProperties>
</file>